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AC0-7BA7-4D79-9FF1-BD6A16CB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D88-B647-4925-BFAB-9EFD153D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2C7-769A-4F97-AB55-0274CD9C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AE1-5F4A-4C23-ABB8-B6C056CB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6495-AD5D-4B12-AD03-174A1336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3548-A1C9-4247-AD2A-7F3D2486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807B-6AC7-4876-9170-A73ACC4E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EE14-4DA2-44DA-8C51-8DFA9D8A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8D0B-E935-4501-8DFA-D4779099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F40C-9719-4673-AB2D-E74BD851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1D8F-8E1D-4317-9D29-A02AA1E7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C69-B4CB-4F3D-A169-213C1731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FE90-6891-495F-964B-500D650C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77B2-7B89-451F-9FCB-1CEC71EA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15D0-4C1B-4D7C-B2A9-18F0E018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891D-D685-4756-AF7A-70358A3C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E41B-4830-44D1-AF8A-8F43428E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51F-D3B3-4742-8E61-DB3C4B2B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767-D370-4C5A-BCFB-B84A490B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86F-8523-4001-AFA2-D359CF62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552-2D6C-4C2A-8D62-70429E26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B91-7BEB-4D36-8756-5E77B14F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622-EA34-4061-85C4-A2D1116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E5C-D553-4A67-BF2C-1842855C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d7d7"/>
            </a:gs>
            <a:gs pos="50000">
              <a:srgbClr val="ffffff"/>
            </a:gs>
            <a:gs pos="100000">
              <a:srgbClr val="d7d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d7d7d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d7d7d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d7d7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d7d7d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d7d7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d7d7d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DB66-4FC7-45BB-B895-68B8BBD3C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d7d7"/>
            </a:gs>
            <a:gs pos="50000">
              <a:srgbClr val="ffffff"/>
            </a:gs>
            <a:gs pos="100000">
              <a:srgbClr val="d7d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d7d7d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d7d7d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d7d7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d7d7d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d7d7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d7d7d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DD28-A03B-4C44-938E-77AE50249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e this stress management sk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a29e"/>
                </a:solidFill>
                <a:latin typeface="Arial"/>
              </a:rPr>
              <a:t>Positive Thinking: </a:t>
            </a:r>
            <a:br>
              <a:rPr sz="4800"/>
            </a:br>
            <a:endParaRPr b="0" lang="en-US" sz="48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tive thinking helps with stress management and can even improve your health. Overcome negative self-talk by recognizing it and practicing with some examples provid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tive thinking enhances focus on your job and can help to reduce the chance of acci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29e"/>
                </a:solidFill>
                <a:latin typeface="Arial"/>
              </a:rPr>
              <a:t>Understanding positive thinking and self-talk 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f-talk is the endless stream of thoughts that run through your head every day. These automatic thoughts can b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Some of your self-talk comes from logic and reason. Other self-talk may arise from misconceptions that you create because of lack of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houghts that run through your head are mostly negative, your outlook on life is likely pessimistic. If your thoughts are mostly positive, you're likely an optimist — someone who practices positive think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29e"/>
                </a:solidFill>
                <a:latin typeface="Arial"/>
              </a:rPr>
              <a:t>How positive thinking gives way to negative thinking 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what if your self-talk is mainly negative? That doesn't mean you're doomed to an unhappy life. Negative self-talk just means that your own misperceptions, lack of information and distorted ideas have overpowered your capacity for logic and reas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29e"/>
                </a:solidFill>
                <a:latin typeface="Arial"/>
              </a:rPr>
              <a:t>Some common forms of negative and irrational self-talk include 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ltering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ou magnify the negative aspects of a situation and filter out all of the positive o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zing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something bad occurs, you automatically blame yourself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tastrophizing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ou automatically anticipate the wors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larizing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ou see things only as either good or bad, black or whi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You can learn positive thinking 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giving in to these kinds of negative self-talk, weed out misconceptions and irrational thinking and then challenge them with rational, positive thoughts. When you do this, your self-talk will gradually become realistic and self-affirming — you engage in positive thin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iodically during the day, stop and evaluate what you're thinking. If you find that your thoughts are mainly negative, try to find a way to put a positive spin o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't say anything to yourself that you wouldn't say to anyone els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80880" y="685800"/>
          <a:ext cx="8229600" cy="508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ive self-talk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itive sp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've never done it befo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's an opportunity to learn something n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's too complica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'll tackle it from a different ang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don't have the resour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cessity is the mother of invention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re's not enough ti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t's re-evaluate some prioriti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re's no way it will wor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can try to make it work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one bothers to communicate with 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'll see if I can open the channels of communication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REMEMBER!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owe it to yourself to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react positive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owe it to yourself to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work safe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owe it to yourself and your loved ones to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void injuri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7:46:26Z</dcterms:created>
  <dc:creator/>
  <dc:description/>
  <dc:language>en-US</dc:language>
  <cp:lastModifiedBy>Bright</cp:lastModifiedBy>
  <dcterms:modified xsi:type="dcterms:W3CDTF">2013-08-23T07:43:11Z</dcterms:modified>
  <cp:revision>5</cp:revision>
  <dc:subject/>
  <dc:title>Positive thinking:</dc:title>
</cp:coreProperties>
</file>